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png" ContentType="image/png"/>
  <Override PartName="/ppt/media/image6.wmf" ContentType="image/x-wmf"/>
  <Override PartName="/ppt/media/image1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6.wmf" ContentType="image/x-wmf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5CD-7FCF-4F10-8D7E-A6F07B20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AD0-46D3-457A-9BE8-95536309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C1C-58C5-4ACE-8E33-E5C3D3F3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C42-EEFD-4898-BFDA-AB1B50A6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F8C9-496D-4CE3-9DA7-0F86FE3A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BFC8-30B4-4327-8094-03CBE80A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4584-A835-429D-82AF-790EA3E0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4DB1-ACD6-4544-8D34-49F0884C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D95D-5B7D-47FF-A8D8-BEAEEA9B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4AC7-9E73-4555-BDB6-09A2AA6B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FF5E-586E-4DA8-889E-D14CA587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49A-B7A8-44D0-A59A-B599F046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9C07-4AB3-4A55-B417-DF6DC8F1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67BC-9D97-4468-AA38-56CB5CC0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B537-3F85-4DC8-9972-3C516225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2DCB-C31F-4BB2-BF48-5C9E7893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4EDB-E9CB-4BCC-8BCB-09BCF260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BA95-480A-4A88-A4BE-AA95D52F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010-2620-440B-8AE7-4D96CAA8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894-E993-4E89-87E4-0BBAA453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3DF-7F28-44BC-929D-EA6C45CE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A8B-E452-4E31-9233-D528B0EA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0FB-4BE0-470E-B861-6CD6D39C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664-6632-4837-9C17-05772DCA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EFE9-AF8E-4AE3-A010-79AF14EA7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EE07-1F60-457E-9216-C402AA699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richarddavies.co.uk/woodenchurches/logblog/wp-content/uploads/2009/06/Bil-Krok-4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Skazka_o_rybake_i_rybke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youtube.com/watch?v=PPnhYKIy3CA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371240"/>
            <a:ext cx="693432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“Fairy Tale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rough Children’s Eyes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33920"/>
            <a:ext cx="6032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Russian HL Teachers’ Proj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HLRC/STARTALK 20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itage Language Teacher Worksh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uly 18-23, 20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Angeles, Californ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it Sequen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ay 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caffolding  activities/Stud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les/Brainstorm activities/Surv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ay 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iewing/Speaking/Reading/Listen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ay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earning Centers/Writing/Readin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ay 4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ork on Projec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ay 5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ork on Projec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ay 6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ject presen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MC900446104[1]"/>
          <p:cNvPicPr/>
          <p:nvPr/>
        </p:nvPicPr>
        <p:blipFill>
          <a:blip r:embed="rId1"/>
          <a:stretch/>
        </p:blipFill>
        <p:spPr>
          <a:xfrm>
            <a:off x="6477120" y="4038480"/>
            <a:ext cx="1685880" cy="2210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aterials u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hentic Printed Tex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казка о рыбаке и рыбк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”, 183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il_fi" descr="Pushkin_skazki2"/>
          <p:cNvPicPr/>
          <p:nvPr/>
        </p:nvPicPr>
        <p:blipFill>
          <a:blip r:embed="rId1"/>
          <a:stretch/>
        </p:blipFill>
        <p:spPr>
          <a:xfrm>
            <a:off x="5943600" y="3048120"/>
            <a:ext cx="1943280" cy="2552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The Tale of Tsarevich Ivan, The Fire-Bird and Grey Wolf - p.1 illustration by Bilibi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3048120"/>
            <a:ext cx="195120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hentic Lacquer Box “Palekh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ry tale Illustr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Palekh Pushkin Rybka 2007 Vikhrev"/>
          <p:cNvPicPr/>
          <p:nvPr/>
        </p:nvPicPr>
        <p:blipFill>
          <a:blip r:embed="rId1"/>
          <a:stretch/>
        </p:blipFill>
        <p:spPr>
          <a:xfrm>
            <a:off x="2895480" y="2743200"/>
            <a:ext cx="3070440" cy="3087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676520" y="60948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aterials u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aterials us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ples of Russian Fairy Tales published from 1980-pres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ooks  featuring  people and animals, colorful illustrations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6248520" y="32004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2895480" y="4038480"/>
            <a:ext cx="3238560" cy="215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1611360" cy="2124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aterials us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il_fi" descr="kiprensky"/>
          <p:cNvPicPr/>
          <p:nvPr/>
        </p:nvPicPr>
        <p:blipFill>
          <a:blip r:embed="rId1"/>
          <a:stretch/>
        </p:blipFill>
        <p:spPr>
          <a:xfrm>
            <a:off x="609480" y="1981080"/>
            <a:ext cx="2568600" cy="32101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3581280" y="1981080"/>
            <a:ext cx="4343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rtrait of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lexander Pushk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the fairy tale auth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828800" y="533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799-183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aterials us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ussian Cartoon “The Tale of the Fishman and the Fish”, 195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5" descr="250px-Skazka_o_rybake_i_rybk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819520"/>
            <a:ext cx="3657600" cy="27352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2193120" y="5695920"/>
            <a:ext cx="5395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http://www.youtube.com/watch?v=PPnhYKIy3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6870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aterials us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5" descr="Pushkin Skazki Chocolate"/>
          <p:cNvPicPr/>
          <p:nvPr/>
        </p:nvPicPr>
        <p:blipFill>
          <a:blip r:embed="rId1"/>
          <a:stretch/>
        </p:blipFill>
        <p:spPr>
          <a:xfrm>
            <a:off x="2895480" y="2286000"/>
            <a:ext cx="5133960" cy="38671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7"/>
          <p:cNvSpPr/>
          <p:nvPr/>
        </p:nvSpPr>
        <p:spPr>
          <a:xfrm>
            <a:off x="685800" y="17524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ssian Chocolate Wrapp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erformance Tas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s will rewrite an original fairy tale with a happy ending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sentation Form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ok proj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wer Point Presen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ry Tale Dramat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udien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mates, Parents, Younger Siblings, Community Programs, Churc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68709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Assess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ombination of Formative and Summative assessmen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-unit Assessment (knowledge of content, vocabulary)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WL chart and brainstorming (classroo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going Assessment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.e., “exit cards” or “ticket out,” writing work in learning centers, informal observ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listic Rubri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roject evalu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ritin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x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ences 3-5 per illustration (expanded, complex syntax, coherence, connectors, conjunctio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of idioms (1-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-List” Vocabulary (10-1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nology of the story (beginning, middle, en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of proper punct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at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33520" y="457200"/>
            <a:ext cx="7162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listic Assessment: Project Evalu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00 pts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6" descr="MC900389212[1]"/>
          <p:cNvPicPr/>
          <p:nvPr/>
        </p:nvPicPr>
        <p:blipFill>
          <a:blip r:embed="rId1"/>
          <a:stretch/>
        </p:blipFill>
        <p:spPr>
          <a:xfrm>
            <a:off x="7391520" y="4191120"/>
            <a:ext cx="1304640" cy="22539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2743200" y="4343400"/>
            <a:ext cx="46483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peakin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of Voice Expressions (intonation, stress, ton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u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uracy (use of tens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tandard-Based Uni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oad to Childhood (holidays, games, songs, fairy tal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ge of Student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3-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anguage Leve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termediate- Advanced 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ime Frame 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6 class period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0 minutes eac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tandar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4" descr="MC900446104[1]"/>
          <p:cNvPicPr/>
          <p:nvPr/>
        </p:nvPicPr>
        <p:blipFill>
          <a:blip r:embed="rId1"/>
          <a:stretch/>
        </p:blipFill>
        <p:spPr>
          <a:xfrm>
            <a:off x="6705720" y="4572000"/>
            <a:ext cx="1325520" cy="1736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68709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clusion/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3352680" cy="31147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1447920" y="6248520"/>
            <a:ext cx="32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http://www.actfl.org/i4a/pages/index.cfm?pageid=3392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5"/>
          <p:cNvSpPr/>
          <p:nvPr/>
        </p:nvSpPr>
        <p:spPr>
          <a:xfrm flipH="1">
            <a:off x="4724280" y="3962520"/>
            <a:ext cx="137160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6"/>
          <p:cNvSpPr/>
          <p:nvPr/>
        </p:nvSpPr>
        <p:spPr>
          <a:xfrm flipH="1">
            <a:off x="4190760" y="1828800"/>
            <a:ext cx="144756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715000" y="1523880"/>
            <a:ext cx="274320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modes: Interpersonal, Interpretive, Presentat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5029200" y="4952880"/>
            <a:ext cx="3276720" cy="16200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ferentiated Instruc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le-intelligen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ckwards Desig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6172200" y="3581280"/>
            <a:ext cx="251460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nguage Arts, History, Art, Technolog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5028840" y="3048120"/>
            <a:ext cx="160020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6705720" y="2590920"/>
            <a:ext cx="1752480" cy="785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acti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4"/>
          <p:cNvSpPr/>
          <p:nvPr/>
        </p:nvSpPr>
        <p:spPr>
          <a:xfrm flipV="1">
            <a:off x="2209680" y="4114800"/>
            <a:ext cx="1524240" cy="533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304920" y="4419720"/>
            <a:ext cx="2057400" cy="785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of Langu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1905120" y="2590920"/>
            <a:ext cx="1295280" cy="7617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304920" y="1447920"/>
            <a:ext cx="2361960" cy="1334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beyond school setting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joyment and Appreciation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4038480" y="3352680"/>
            <a:ext cx="914400" cy="18288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AutoShape 21"/>
          <p:cNvSpPr/>
          <p:nvPr/>
        </p:nvSpPr>
        <p:spPr>
          <a:xfrm>
            <a:off x="3733920" y="3124080"/>
            <a:ext cx="761760" cy="609840"/>
          </a:xfrm>
          <a:custGeom>
            <a:avLst/>
            <a:gdLst>
              <a:gd name="textAreaLeft" fmla="*/ 177480 w 761760"/>
              <a:gd name="textAreaRight" fmla="*/ 583920 w 761760"/>
              <a:gd name="textAreaTop" fmla="*/ 64080 h 609840"/>
              <a:gd name="textAreaBottom" fmla="*/ 386280 h 609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abic Shukra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ndarin [Chinese] Xie xi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sian Moteshakeram; Merc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Spain) Graci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brew (Israel) Tod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ruba [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ше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orean (Korea) [very informal] Komawoy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ssian (Russia) Spasib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Picture 8" descr="MP900443889[1]"/>
          <p:cNvPicPr/>
          <p:nvPr/>
        </p:nvPicPr>
        <p:blipFill>
          <a:blip r:embed="rId1"/>
          <a:stretch/>
        </p:blipFill>
        <p:spPr>
          <a:xfrm>
            <a:off x="6578640" y="1981080"/>
            <a:ext cx="1474920" cy="2210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L students were bor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U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Russia or former USSR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xed marriage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opted childre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mersion school HL student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ies of Old Believ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ussian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HL Learner: Prof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5" descr="MC900101208[1]"/>
          <p:cNvPicPr/>
          <p:nvPr/>
        </p:nvPicPr>
        <p:blipFill>
          <a:blip r:embed="rId1"/>
          <a:stretch/>
        </p:blipFill>
        <p:spPr>
          <a:xfrm>
            <a:off x="5638680" y="1981080"/>
            <a:ext cx="3071880" cy="1849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6553080" y="3962520"/>
            <a:ext cx="13827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rerequisites for the Uni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dff"/>
                </a:solidFill>
                <a:latin typeface="Comic Sans MS"/>
              </a:rPr>
              <a:t>Students’ Language Proficiency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Listening &amp; Speaking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- Intermediate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Reading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– Novice High – Intermediat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Writing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– Intermediat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Cultural Background Knowledge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838080" y="1066680"/>
            <a:ext cx="7391520" cy="57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Students’ Strength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ehension of concrete and some  abstract vocabulary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aking with sentences and string of sentence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ing simple sentences or string of sente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tudents’ Weakness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ing Fluency – Low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ing Fluency – Low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ck of Genre Specific Vocabulary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ck of Coherence in Storytell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itle 1"/>
          <p:cNvSpPr/>
          <p:nvPr/>
        </p:nvSpPr>
        <p:spPr>
          <a:xfrm>
            <a:off x="76212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rerequisites for the Uni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7" descr="MC900251285[1]"/>
          <p:cNvPicPr/>
          <p:nvPr/>
        </p:nvPicPr>
        <p:blipFill>
          <a:blip r:embed="rId1"/>
          <a:stretch/>
        </p:blipFill>
        <p:spPr>
          <a:xfrm>
            <a:off x="6934320" y="2057400"/>
            <a:ext cx="1295280" cy="865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MC900078752[1]"/>
          <p:cNvPicPr/>
          <p:nvPr/>
        </p:nvPicPr>
        <p:blipFill>
          <a:blip r:embed="rId2"/>
          <a:stretch/>
        </p:blipFill>
        <p:spPr>
          <a:xfrm>
            <a:off x="6400800" y="4038480"/>
            <a:ext cx="2052720" cy="1963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nduring Understand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tudents will develo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reciation of poetical form of fair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tudents will val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lationship between generation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7"/>
          <p:cNvSpPr/>
          <p:nvPr/>
        </p:nvSpPr>
        <p:spPr>
          <a:xfrm>
            <a:off x="1371600" y="1447920"/>
            <a:ext cx="739152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a short story (fairy tale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various types of senten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(expanded, complex syntax with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njunctions 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because, that/who, which, and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y their ideas using the Past Tens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transitional  devi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then, therefore, at first, finall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nt their stories with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uthentic voice express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various media to convey a stor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different listen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inguish fairy tale language fro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sational languag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28800" y="457200"/>
            <a:ext cx="5257800" cy="990720"/>
          </a:xfrm>
          <a:prstGeom prst="downArrowCallout">
            <a:avLst>
              <a:gd name="adj1" fmla="val 132688"/>
              <a:gd name="adj2" fmla="val 132676"/>
              <a:gd name="adj3" fmla="val 16667"/>
              <a:gd name="adj4" fmla="val 6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udents will be able t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772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cess of storytelling writ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stories  reflect  people’s cultural belie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ies are a road to people’s past and pres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etical text and ways to retell a story in pro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1676520" y="380880"/>
            <a:ext cx="5181480" cy="990720"/>
          </a:xfrm>
          <a:prstGeom prst="downArrowCallout">
            <a:avLst>
              <a:gd name="adj1" fmla="val 130762"/>
              <a:gd name="adj2" fmla="val 130750"/>
              <a:gd name="adj3" fmla="val 16667"/>
              <a:gd name="adj4" fmla="val 6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udents will understand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Differentiated Instructional Strategi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ing Students’ Learning Style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(project-rewriting tex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ffolding to connect to students’ prior knowledge and ski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in Small Group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(interest, flexible grouping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rning Center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(writing, vocabulary builder, story skill developm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ignment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( learning cente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roduction of Learning Mater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MC900214930[1]"/>
          <p:cNvPicPr/>
          <p:nvPr/>
        </p:nvPicPr>
        <p:blipFill>
          <a:blip r:embed="rId1"/>
          <a:stretch/>
        </p:blipFill>
        <p:spPr>
          <a:xfrm>
            <a:off x="6705720" y="4343400"/>
            <a:ext cx="2185920" cy="2124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LACWL5</cp:lastModifiedBy>
  <dcterms:modified xsi:type="dcterms:W3CDTF">2010-07-28T19:04:28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