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png" ContentType="image/png"/>
  <Override PartName="/ppt/media/image6.wmf" ContentType="image/x-wmf"/>
  <Override PartName="/ppt/media/image1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B79-FF49-4A83-8E2C-8C25300D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B46-DB85-4B3A-8839-0FB75646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D98-FF8D-4540-AD35-5AA44395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790-FAD7-4EBB-BCB3-C3B2786B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39C1-A188-45B1-B2E1-A1AC3327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60A7-B090-43B0-B38E-F2253A71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F174-D9F8-40FF-B075-CA3C2D9C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7680-81FF-4CE0-AA5F-B9F2B7DD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10BC-1113-42F0-9A06-07E93C6A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682F-B8A6-44B6-B603-783C0AB8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2BC6-4A2D-454E-A51B-1487AF14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943-0470-4890-8C7C-F0512A4B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3CDA-67FE-4A74-8353-9A3E30DB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5A6B-7553-4638-8B94-A34884F5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A8B1-ED7E-4165-9C60-E6CE98AA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4443-7262-4CBB-80E0-B54E739A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5848-ADDD-44E5-9BF0-02648E63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A11-3DEB-4A4E-9AFA-D468BF4C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DC4-9202-4003-9A6A-407D991C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432-0744-492B-B9FB-F41073E6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B1F-10EC-401A-A950-9D692D93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6ED-CFC7-4261-A2D8-7C6691BE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F41-70DB-4665-9AFF-42F9B102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1A2-CDDF-4221-82CD-49795B0E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0A74-BB7C-4549-B7BC-2C047C225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43B-0BCD-49C7-9045-105CADC03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richarddavies.co.uk/woodenchurches/logblog/wp-content/uploads/2009/06/Bil-Krok-4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kazka_o_rybake_i_rybke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youtube.com/watch?v=PPnhYKIy3CA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693432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“Fairy Tale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rough Children’s Eyes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33920"/>
            <a:ext cx="6032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Russian HL Teachers’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HLRC/STARTALK 20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itage Language Teacher Works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uly 18-23, 20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Angeles, Californ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Seque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caffolding  activities/Stud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les/Brainstorm activities/Surv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iewing/Speaking/Reading/Liste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earning Centers/Writing/Read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ork on Projec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5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ork on Projec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6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ject presen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MC900446104[1]"/>
          <p:cNvPicPr/>
          <p:nvPr/>
        </p:nvPicPr>
        <p:blipFill>
          <a:blip r:embed="rId1"/>
          <a:stretch/>
        </p:blipFill>
        <p:spPr>
          <a:xfrm>
            <a:off x="6477120" y="4038480"/>
            <a:ext cx="1685880" cy="2210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entic Printed Tex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азка о рыбаке и рыбк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, 183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il_fi" descr="Pushkin_skazki2"/>
          <p:cNvPicPr/>
          <p:nvPr/>
        </p:nvPicPr>
        <p:blipFill>
          <a:blip r:embed="rId1"/>
          <a:stretch/>
        </p:blipFill>
        <p:spPr>
          <a:xfrm>
            <a:off x="5943600" y="3048120"/>
            <a:ext cx="1943280" cy="2552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The Tale of Tsarevich Ivan, The Fire-Bird and Grey Wolf - p.1 illustration by Bilibi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3048120"/>
            <a:ext cx="19512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hentic Lacquer Box “Palekh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ry tale Illustr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Palekh Pushkin Rybka 2007 Vikhrev"/>
          <p:cNvPicPr/>
          <p:nvPr/>
        </p:nvPicPr>
        <p:blipFill>
          <a:blip r:embed="rId1"/>
          <a:stretch/>
        </p:blipFill>
        <p:spPr>
          <a:xfrm>
            <a:off x="2895480" y="2743200"/>
            <a:ext cx="3070440" cy="3087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676520" y="6094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s of Russian Fairy Tales published from 1980-pres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oks  featuring  people and animals, colorful illustration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6248520" y="32004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2895480" y="4038480"/>
            <a:ext cx="3238560" cy="215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1611360" cy="2124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il_fi" descr="kiprensky"/>
          <p:cNvPicPr/>
          <p:nvPr/>
        </p:nvPicPr>
        <p:blipFill>
          <a:blip r:embed="rId1"/>
          <a:stretch/>
        </p:blipFill>
        <p:spPr>
          <a:xfrm>
            <a:off x="609480" y="1981080"/>
            <a:ext cx="2568600" cy="3210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3581280" y="1981080"/>
            <a:ext cx="4343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trait of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exander Pushk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the fairy tale auth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82880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799-183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ussian Cartoon “The Tale of the Fishman and the Fish”, 195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5" descr="250px-Skazka_o_rybake_i_rybk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819520"/>
            <a:ext cx="3657600" cy="27352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2193120" y="5695920"/>
            <a:ext cx="5395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youtube.com/watch?v=PPnhYKIy3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5" descr="Pushkin Skazki Chocolate"/>
          <p:cNvPicPr/>
          <p:nvPr/>
        </p:nvPicPr>
        <p:blipFill>
          <a:blip r:embed="rId1"/>
          <a:stretch/>
        </p:blipFill>
        <p:spPr>
          <a:xfrm>
            <a:off x="2895480" y="2286000"/>
            <a:ext cx="5133960" cy="38671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685800" y="1752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ssian Chocolate Wrapp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rformance Tas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s will rewrite an original fairy tale with a happy ending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sentation For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k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 Point Presen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ry Tale Dramat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udien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mates, Parents, Younger Siblings, Community Programs, Chur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Assess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bination of Formative and Summative assessmen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-unit Assessment (knowledge of content, vocabulary)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WL chart and brainstorming (classroo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going Assessment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.e., “exit cards” or “ticket out,” writing work in learning centers, informal observ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listic Rubr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roject evalu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it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ences 3-5 per illustration (expanded, complex syntax, coherence, connectors, conjunc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of idioms (1-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-List” Vocabulary (10-1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nology of the story (beginning, middle, en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of proper punct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at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33520" y="457200"/>
            <a:ext cx="7162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listic Assessment: Project Evalu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00 pts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6" descr="MC900389212[1]"/>
          <p:cNvPicPr/>
          <p:nvPr/>
        </p:nvPicPr>
        <p:blipFill>
          <a:blip r:embed="rId1"/>
          <a:stretch/>
        </p:blipFill>
        <p:spPr>
          <a:xfrm>
            <a:off x="7391520" y="4191120"/>
            <a:ext cx="1304640" cy="22539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2743200" y="4343400"/>
            <a:ext cx="46483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peak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Voice Expressions (intonation, stress, ton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uracy (use of tens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tandard-Based Uni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oad to Childhood (holidays, games, songs, fairy tal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ge of Studen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3-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anguage Leve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termediate- Advanced 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ime Frame 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6 class period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0 minutes ea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tandar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MC900446104[1]"/>
          <p:cNvPicPr/>
          <p:nvPr/>
        </p:nvPicPr>
        <p:blipFill>
          <a:blip r:embed="rId1"/>
          <a:stretch/>
        </p:blipFill>
        <p:spPr>
          <a:xfrm>
            <a:off x="6705720" y="4572000"/>
            <a:ext cx="1325520" cy="1736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clusion/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352680" cy="31147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1447920" y="6248520"/>
            <a:ext cx="32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http://www.actfl.org/i4a/pages/index.cfm?pageid=339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"/>
          <p:cNvSpPr/>
          <p:nvPr/>
        </p:nvSpPr>
        <p:spPr>
          <a:xfrm flipH="1">
            <a:off x="4724280" y="3962520"/>
            <a:ext cx="13716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6"/>
          <p:cNvSpPr/>
          <p:nvPr/>
        </p:nvSpPr>
        <p:spPr>
          <a:xfrm flipH="1">
            <a:off x="4190760" y="1828800"/>
            <a:ext cx="144756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715000" y="1523880"/>
            <a:ext cx="274320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modes: Interpersonal, Interpretive, Presentat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5029200" y="4952880"/>
            <a:ext cx="3276720" cy="1620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erentiated Instruc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-intelligen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wards Desig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6172200" y="3581280"/>
            <a:ext cx="25146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Arts, History, Art, Techno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5028840" y="3048120"/>
            <a:ext cx="160020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705720" y="2590920"/>
            <a:ext cx="175248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acti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4"/>
          <p:cNvSpPr/>
          <p:nvPr/>
        </p:nvSpPr>
        <p:spPr>
          <a:xfrm flipV="1">
            <a:off x="2209680" y="4114800"/>
            <a:ext cx="152424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304920" y="4419720"/>
            <a:ext cx="2057400" cy="785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of Langu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1905120" y="2590920"/>
            <a:ext cx="1295280" cy="7617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304920" y="1447920"/>
            <a:ext cx="2361960" cy="1334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beyond school setting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joyment and Apprecia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038480" y="3352680"/>
            <a:ext cx="914400" cy="18288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21"/>
          <p:cNvSpPr/>
          <p:nvPr/>
        </p:nvSpPr>
        <p:spPr>
          <a:xfrm>
            <a:off x="3733920" y="3124080"/>
            <a:ext cx="761760" cy="609840"/>
          </a:xfrm>
          <a:custGeom>
            <a:avLst/>
            <a:gdLst>
              <a:gd name="textAreaLeft" fmla="*/ 177480 w 761760"/>
              <a:gd name="textAreaRight" fmla="*/ 583920 w 761760"/>
              <a:gd name="textAreaTop" fmla="*/ 64080 h 609840"/>
              <a:gd name="textAreaBottom" fmla="*/ 386280 h 609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abic Shukra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ndarin [Chinese] Xie xi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sian Moteshakeram; Mer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Spain) Graci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brew (Israel) Tod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ruba [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ше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orean (Korea) [very informal] Komawoy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ssian (Russia) Spasib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8" descr="MP900443889[1]"/>
          <p:cNvPicPr/>
          <p:nvPr/>
        </p:nvPicPr>
        <p:blipFill>
          <a:blip r:embed="rId1"/>
          <a:stretch/>
        </p:blipFill>
        <p:spPr>
          <a:xfrm>
            <a:off x="6578640" y="1981080"/>
            <a:ext cx="1474920" cy="2210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L students were bor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U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Russia or former USS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marriage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opted childre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mersion school HL student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ies of Old Believ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ussia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HL Learner: Prof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5" descr="MC900101208[1]"/>
          <p:cNvPicPr/>
          <p:nvPr/>
        </p:nvPicPr>
        <p:blipFill>
          <a:blip r:embed="rId1"/>
          <a:stretch/>
        </p:blipFill>
        <p:spPr>
          <a:xfrm>
            <a:off x="5638680" y="1981080"/>
            <a:ext cx="3071880" cy="184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6553080" y="3962520"/>
            <a:ext cx="13827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rerequisites for the Un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dff"/>
                </a:solidFill>
                <a:latin typeface="Comic Sans MS"/>
              </a:rPr>
              <a:t>Students’ Language Proficiency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Listening &amp; Speaking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- Intermediate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– Novice High – Intermedia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Writing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– Intermedia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Cultural Background Knowledg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838080" y="1066680"/>
            <a:ext cx="7391520" cy="57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Students’ Strength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ehension of concrete and some  abstract vocabulary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aking with sentences and string of sentence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simple sentences or string of sente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tudents’ Weakness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Fluency – Low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Fluency – Low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ck of Genre Specific Vocabulary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ck of Coherence in Storytell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itle 1"/>
          <p:cNvSpPr/>
          <p:nvPr/>
        </p:nvSpPr>
        <p:spPr>
          <a:xfrm>
            <a:off x="76212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rerequisites for the Un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MC900251285[1]"/>
          <p:cNvPicPr/>
          <p:nvPr/>
        </p:nvPicPr>
        <p:blipFill>
          <a:blip r:embed="rId1"/>
          <a:stretch/>
        </p:blipFill>
        <p:spPr>
          <a:xfrm>
            <a:off x="6934320" y="205740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MC900078752[1]"/>
          <p:cNvPicPr/>
          <p:nvPr/>
        </p:nvPicPr>
        <p:blipFill>
          <a:blip r:embed="rId2"/>
          <a:stretch/>
        </p:blipFill>
        <p:spPr>
          <a:xfrm>
            <a:off x="6400800" y="4038480"/>
            <a:ext cx="2052720" cy="1963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nduring Understand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tudents will devel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reciation of poetical form of fair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tudents will val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lationship between generatio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1371600" y="1447920"/>
            <a:ext cx="739152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a short story (fairy tale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various types of senten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expanded, complex syntax wit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junctions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because, that/who, which, and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y their ideas using the Past Ten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ransitional  devi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then, therefore, at first, finall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 their stories with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uthentic voice express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various media to convey a stor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different listen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nguish fairy tale language fro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sational languag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28800" y="457200"/>
            <a:ext cx="5257800" cy="990720"/>
          </a:xfrm>
          <a:prstGeom prst="downArrowCallout">
            <a:avLst>
              <a:gd name="adj1" fmla="val 132688"/>
              <a:gd name="adj2" fmla="val 132676"/>
              <a:gd name="adj3" fmla="val 16667"/>
              <a:gd name="adj4" fmla="val 6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udents will be able 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cess of storytelling wri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tories  reflect  people’s cultural belie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ies are a road to people’s past and pres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etical text and ways to retell a story in pro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676520" y="380880"/>
            <a:ext cx="5181480" cy="990720"/>
          </a:xfrm>
          <a:prstGeom prst="downArrowCallout">
            <a:avLst>
              <a:gd name="adj1" fmla="val 130762"/>
              <a:gd name="adj2" fmla="val 130750"/>
              <a:gd name="adj3" fmla="val 16667"/>
              <a:gd name="adj4" fmla="val 6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udents will understan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ifferentiated Instructional Strateg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 Students’ Learning Styl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project-rewriting tex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ffolding to connect to students’ prior knowledge and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in Small Group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interest, flexible grouping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ing Center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writing, vocabulary builder, story skill developm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ignment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 learning cent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oduction of Learning Mater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MC900214930[1]"/>
          <p:cNvPicPr/>
          <p:nvPr/>
        </p:nvPicPr>
        <p:blipFill>
          <a:blip r:embed="rId1"/>
          <a:stretch/>
        </p:blipFill>
        <p:spPr>
          <a:xfrm>
            <a:off x="6705720" y="4343400"/>
            <a:ext cx="218592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LACWL5</cp:lastModifiedBy>
  <dcterms:modified xsi:type="dcterms:W3CDTF">2010-07-28T19:04:2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